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8.gif" ContentType="image/gif"/>
  <Override PartName="/ppt/media/image25.png" ContentType="image/png"/>
  <Override PartName="/ppt/media/image32.gif" ContentType="image/gif"/>
  <Override PartName="/ppt/media/image22.gif" ContentType="image/gif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41.jpeg" ContentType="image/jpeg"/>
  <Override PartName="/ppt/media/image18.wmf" ContentType="image/x-wmf"/>
  <Override PartName="/ppt/media/image36.jpeg" ContentType="image/jpeg"/>
  <Override PartName="/ppt/media/image17.gif" ContentType="image/gif"/>
  <Override PartName="/ppt/media/image13.wmf" ContentType="image/x-wmf"/>
  <Override PartName="/ppt/media/image16.jpeg" ContentType="image/jpeg"/>
  <Override PartName="/ppt/media/image39.gif" ContentType="image/gif"/>
  <Override PartName="/ppt/media/image15.jpeg" ContentType="image/jpeg"/>
  <Override PartName="/ppt/media/image14.gif" ContentType="image/gif"/>
  <Override PartName="/ppt/media/image2.wmf" ContentType="image/x-wmf"/>
  <Override PartName="/ppt/media/image23.gif" ContentType="image/gif"/>
  <Override PartName="/ppt/media/image49.jpeg" ContentType="image/jpeg"/>
  <Override PartName="/ppt/media/image30.png" ContentType="image/png"/>
  <Override PartName="/ppt/media/image37.gif" ContentType="image/gif"/>
  <Override PartName="/ppt/media/image29.jpeg" ContentType="image/jpeg"/>
  <Override PartName="/ppt/media/image5.png" ContentType="image/png"/>
  <Override PartName="/ppt/media/image42.gif" ContentType="image/gif"/>
  <Override PartName="/ppt/media/image31.gif" ContentType="image/gif"/>
  <Override PartName="/ppt/media/image38.jpeg" ContentType="image/jpeg"/>
  <Override PartName="/ppt/media/image33.gif" ContentType="image/gif"/>
  <Override PartName="/ppt/media/image8.gif" ContentType="image/gif"/>
  <Override PartName="/ppt/media/image45.gif" ContentType="image/gif"/>
  <Override PartName="/ppt/media/image34.gif" ContentType="image/gif"/>
  <Override PartName="/ppt/media/image48.jpeg" ContentType="image/jpeg"/>
  <Override PartName="/ppt/media/image46.gif" ContentType="image/gif"/>
  <Override PartName="/ppt/media/image11.gif" ContentType="image/gif"/>
  <Override PartName="/ppt/media/image47.jpeg" ContentType="image/jpeg"/>
  <Override PartName="/ppt/media/image4.png" ContentType="image/png"/>
  <Override PartName="/ppt/media/image50.gif" ContentType="image/gif"/>
  <Override PartName="/ppt/media/image12.gif" ContentType="image/gif"/>
  <Override PartName="/ppt/media/image24.jpeg" ContentType="image/jpeg"/>
  <Override PartName="/ppt/media/image9.jpeg" ContentType="image/jpeg"/>
  <Override PartName="/ppt/media/image44.gif" ContentType="image/gif"/>
  <Override PartName="/ppt/media/image7.png" ContentType="image/png"/>
  <Override PartName="/ppt/media/image35.jpeg" ContentType="image/jpeg"/>
  <Override PartName="/ppt/media/image1.jpeg" ContentType="image/jpeg"/>
  <Override PartName="/ppt/media/image27.gif" ContentType="image/gif"/>
  <Override PartName="/ppt/media/image43.gif" ContentType="image/gif"/>
  <Override PartName="/ppt/media/image6.png" ContentType="image/png"/>
  <Override PartName="/ppt/media/image26.gif" ContentType="image/gif"/>
  <Override PartName="/ppt/media/image3.png" ContentType="image/png"/>
  <Override PartName="/ppt/media/image4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9AB-71E6-4199-98C7-3652BAF1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2B5-EE5C-4808-8347-B39D670A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4C42A-5FA4-4AC7-8566-272132A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8BB86-4084-4F8E-919F-02808F3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51F66-B084-4A49-9113-52E9E71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351EF-DFCB-47CB-A415-AF30955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E47D-3FAC-411A-B8C0-69407C3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8D5F4-8480-4B46-82AC-61CEBA2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B7A94-13AA-4663-8A11-0047BF9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374F4-B369-4EB2-AF05-0BC885DF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F07E1-8DD2-496F-A410-04E289B2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85B7-85BB-4FF6-9080-88F5F773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FDC-F440-4521-A5DD-F7498BC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C969B-0C01-4081-AE36-E52BA4CF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8AA5C-BD10-49B3-9745-6C15B2E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76252-AE4B-4053-B550-A7D25C0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D58C3-8ED8-4F9B-8A71-A5FCBD4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AE858-5DB5-4B65-A5D4-A2DA655B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18807-3EE3-4C37-B0A8-23CA0B5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4174B-C792-4340-80D9-C4000FF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7E72-35E5-44F9-AB9B-9A7BFE5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BD007-3F80-4698-A8D3-34BF4838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C980-A4A2-4167-9570-0DE85624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70D-9DCA-4A4E-9757-FF1465FA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980E2-E2FE-4CB1-BAEF-84DF5468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7E3E8-DB56-4C05-915F-CB731678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A39F-705F-4698-8BD3-643CB84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74CF-0271-4B22-9104-78249F1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E827-4B1F-4208-9CB1-AA3EDD6A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7A38-9226-4159-96D5-AFE626B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39E31-D763-4706-89CB-49F92C5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DD10-DA01-4928-9338-F1B491E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32F22-383C-4E88-B50C-4FAA6BE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146AF-632E-44B3-A1F0-DE07AD4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FDC02-0423-4B56-8CFB-6CA9650A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35330-150C-44CD-82C6-0A824AD8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5A809-9C54-4555-9886-2B8E4043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48A2C-AABF-413E-B188-3B14F44A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DD4D-3B07-4572-ACB7-EB68CC2A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1DC8A-3270-4C0F-A5C5-9F0D6CF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F9951-7507-402C-8173-1C79FCC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F110A-3621-4739-85BB-E8E9326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68190-663F-4472-A891-DB50FB22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AE0B6-5A9A-46A8-86B1-FAE0269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3B82A-DBD9-4461-BFCA-96766BE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5225-B025-43F4-92EF-4EF9A2E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F633B-CCE8-45F5-9711-D39609C2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FBBA0-7594-4784-A5F6-EA3F52E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8EDBD-A9C3-4A8C-A984-2A1CDDA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423BE-E218-41C7-805B-A21E6A51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79ABF-843F-4253-899E-3DE92FA3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31132-81B0-42B8-A64C-05BF84B4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A78F3-9128-4772-B091-8395F65F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824B8-B552-499B-84F3-F2F01EF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E804A-8A42-44E0-8C3B-DF863E6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60175-D4DD-4B20-AD08-57583006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8D051-9FE7-44DB-B815-480149C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8574E-1469-4506-8AB6-660BE5B2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8E033-9E65-4354-9058-FFA0287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38E1F-C141-4FED-B8A1-E502F67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21CB1-9729-4D46-93CD-BDD724BB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A7619-F674-4D31-8D03-97D20AC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95F49-3697-476E-AEBD-0A97CB7E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85247-F8E4-4E83-8FDC-920884D9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E5283-83EA-422C-8097-DA12C813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C0838-EFFA-4D41-94B6-4655E4E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8C17F-56FE-4DEB-B762-A616F6EF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45AB-8AAD-4992-B34C-3D0FD709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7905B-9A8D-4225-9FBA-12623B0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0F770-4499-48AC-A168-1144AF6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9752C-F8E0-4006-B51C-BA014F5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ACF3B-75FE-433C-8446-8945EFD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DA473-8672-45D7-9944-7475B83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4EC17-F014-4E32-A7FD-2441A56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A92ED-77D6-4D83-861F-19C6843B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AFA57-AC28-4354-9260-2E7DE8D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5F054-D2E3-4323-BB0D-0EE809F0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B43396-0B91-4EA3-BB95-F402259B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D359-D062-4669-AD9C-0A001D4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903900-6075-42ED-BE8C-E3F2EC0F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4B6AC0-0C04-4FFA-A027-E3AAB2D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9D86BB-3812-4A76-B894-83F906C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1960BC-28A3-44B4-8FEA-9E59601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7CA35B-B097-42E8-BC3F-54D4F38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424AB3-76CC-43F4-977A-B528713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A6D147-57C2-4234-B511-5393EC7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8D8DAD-4A14-43FA-8807-01565E0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C4CD5C-2C00-4AF4-877D-E9B05C77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FED464-5187-4D0E-B7A4-DCC45E0D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F8CB1-856E-449B-A686-2B01F129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2EA37E-51C7-4343-90E6-246652CC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F582E-3A94-45F2-A092-096CF2BB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71C3A-AA1D-41EA-AE78-4FAE51A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D745B-6212-4406-8F05-01001FE9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8166C-08E1-4285-9A1A-0A2305CC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0AEF5-DE98-4829-B1F7-D4C6C8F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55ECF-76B3-4F13-BCA8-DD3A4F1E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EF1D0-5366-4151-8905-8CBDB25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88B21-6F54-4344-8718-BD03E0A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45E7D-5E0A-4CE0-8509-870ADEB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6E713-22FF-4B6F-AD4D-4CE1F3D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18CA3-4BB3-40AD-82AB-E0668F0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1F487-DC65-476F-824E-51E91B28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7AB57-3376-41B6-9356-06029AD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32168-9969-430C-ACD6-79608646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44494-BE32-4621-BABE-B30CDAA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F2D23-4654-4F9B-A020-57E4873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E4919-12DE-4EA6-9B4D-D54850E5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65BF6-689B-421F-910D-014F8F58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F1DC1-8BBD-4F1C-A814-48D4FD6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2984C-3FAF-4076-AF09-96E24DC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FDA-0905-49E1-ADFA-3FEF389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0AF38-7256-4791-B695-E3D939A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9EADC-D9D6-45CE-848F-BE50DB8D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0CE68-FB82-4C47-886E-709F23B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6B507-E001-45F3-84A3-4F81777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CB1F3-E0C5-49BF-8D4F-D497EB5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6AD8A-0E86-4E8A-91C4-34E50105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EDDD5-F1ED-4221-AFF0-BD0980AF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6CD22-4191-4B15-90D3-A059A867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B2DA4-12E1-43E5-95EA-CB4814F7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86E56-9FA5-488D-B6BC-C6BC6CEB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5669-8C28-4169-BCF0-5429AD07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755F-7858-49E2-BB81-887F4CD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4A377-1B93-4484-A982-EEF06A5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AE457-7A04-4973-BA87-EB1FB31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7A7DD-F90E-47EB-88B0-161EDA1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E4886-70D9-45F8-A85A-CE20B2F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6B26A-8A9E-4B4C-ACD2-4F44DC0F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B3C3B-B7ED-4D8C-96CC-59CA0628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1FC38-B76E-48D8-A8D9-1EE56BCA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64EC3-62CB-47DF-81B9-FFEC0B75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6F582-81C6-4093-ADF8-9A1F3D4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59B1A-94B2-491A-8973-51D4626B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C5B47-9C88-4DC9-A3A5-B889EE4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DE6AC-0A08-4868-B605-E643CF61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00B20-A7B9-477F-9938-93E6EF7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6FCCB-E500-46BF-81D1-EDAD70A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A3A6F-0E6A-43C7-808B-9948BED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ECA55-95EC-4E1F-99E2-F7DDEF3E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3D440-BBAF-479A-964A-6D5A475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53404-CB0C-4AED-84EB-4973691E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56589-DAB4-4B0E-B2FC-00C9E8B7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83933-DF18-4F1F-9443-A1C523C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644F6-CFCD-4A31-AD43-170CD3B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A526E-B3BE-4574-A5CC-9B96BF04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664C1-634C-47E5-8004-DAB21318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8CB48-C71B-4BD9-9343-84A4016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7C260-EFDC-444F-BA3C-BBDC8B0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0DB66-92C5-4EAE-87B0-9CF2312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F7A0D-FE8B-4683-B4B2-0112604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6B842-311C-4CDE-89FC-ADF50C4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DA454-3335-4F2F-B724-2E8CD5E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0F57C-9A4B-481C-ACF8-63633AA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16077-4229-428E-8101-416C2E0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66DA2-D383-47C3-B4BD-D3C239BA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22B86-D2B8-4ED5-9855-5259BD6C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85C69-FC9A-496A-8224-C84ADCE7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37D6A-1DAF-4AC7-A0C3-9D91A7F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B0619-11BD-4F1E-8EEF-E7BDC73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5E638-E49A-448A-99D7-87D8CDE5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90833-0A01-44D2-8270-CEA4A50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0AFA0-87B1-47D1-9285-DEE01D6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A5780-2B4D-4EDF-9BFF-ABF8CD9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41110-901B-4175-98FA-2C9DE1C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C95735-F133-4A52-9F0C-33F924F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ABA58-3201-4185-AFEC-9830F04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A15D-97C5-44D6-908B-01D7166B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81A597-3592-47B1-BC1B-1D551406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5AFF7-0840-432F-BE6E-7E7DAE88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8B568-7E4A-4EFB-B354-9F56DBD2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3555DE-09FF-4896-A7E1-76281C1C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31A91E-C2BC-4EDA-8344-30F3699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3AD86D-9265-4D7D-BFF5-E646524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502FA-6FB8-46B7-ADF4-3974327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B0FE4-AEE3-494B-AA8F-560ADEC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4FBEA3-4F6F-4F33-B5FA-96C10990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81D32-FB39-44B1-8F6E-28F97FBA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99A5-4105-49B0-B43F-CC1EC51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9382E-B2C8-4877-A69F-AA956B0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7C14E-3FA4-4590-90C7-B70B0F2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17663-F4F4-469F-A1DF-D2BD253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5A64F2-6A98-4A28-9B40-50922244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AAB25D-0DAE-4DCC-B179-D42B902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21E853-91B5-4076-B133-24D06BCE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2B1BF-2757-4560-961B-4CAD74E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8BF87-A03A-483F-B52B-FE16F95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9F8C19-449D-4D4F-9BB5-F7E5093B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323E5-48AE-41F8-8FC3-FE9E070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45F1-36F3-4CF5-AE7B-062E366B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0CF84-F072-4012-B220-C3EBAEAA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3EE0D-FFD3-4824-A33D-08626DC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869721-9F76-44C2-B7C3-7ABE8759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E0994B-C9F3-434A-8EB7-98FEDEB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F2961-AAC5-409A-A5BA-22A097F8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50B1F3-9CFE-4357-932D-210F8399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BA149-E365-40AF-99F4-AEBA3AA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4A901-56EE-4B8C-9EBA-056A1D5B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F1D496-C8BC-407F-8F48-CD65A743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CDFA55-8709-4D28-8A49-A15CDDE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31A0-3F6A-4CA4-A7D2-83034E4B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E5EEB2-BACA-48EA-9977-76CF914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E6A33A-2EC2-4428-AC3A-C9D6F3F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50BF37-7F3C-4FBB-B49A-682F19F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A667F4-E22D-4D9C-99DB-057371A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8F0B53-2876-4812-B032-33A8DD7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26FE5B-3048-411E-B2F9-CBEE930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EAC94-2D9F-4A5B-9185-49A41489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31238D-4907-4D37-A9D3-9C6D1765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B930A-DEDE-4B0C-9D03-09CA81B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8A26DF-1363-4712-8C2C-82D24434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C122-B6D9-42E0-90AF-B3FAA18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E47146-281B-444D-8FC3-DD58483D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3D9D50-3A85-4CC8-9CFC-02178FBD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57C2DE-D8C0-4064-919C-042F5CA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009950-FC05-49BE-839C-76F762F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8AA05-43FB-4BCB-B553-B4B2DFB0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E1464F-F317-40DE-BBD6-3A15EDE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EEF1B5-CDBC-4424-9663-51D108F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30AD2A-63BB-4414-A253-97E578F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56224-C6E5-4A35-A7AD-09AF8CE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554121-DA84-47DF-916D-3721695D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195-2EA8-44EF-9B44-031C4B92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D7EA-8743-4654-823A-C6F395A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8D3370-7B34-4E00-926C-E18A09EC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9C76AD-B347-4BA2-8DF1-CFDCF761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4290B5-FE18-47F3-92FE-E72AF042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07A02E-8837-4337-9227-BC29DF58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181E54-B27D-4E6B-BAEE-91CB7AE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39C86E-3656-434D-B40E-F5F64EB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5D321B-0947-4079-9BF3-274A1E13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0D62BD-AD6A-4289-96E8-A0D15C9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621E96-5722-4CEB-AB25-9B90764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9B34BE-3299-48F2-8288-3B3C82D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2599-89B9-4FCA-821C-E9276E1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A194EF-BFA4-4320-B423-AED1548E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32296-3CFE-4452-B0A8-2AAAF3A3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F7FBE1-E5A9-4BD8-BB43-255EEC83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F33B07-AEB3-47CB-AFB3-94BDEAC5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DCBB0C-20CA-4D89-861D-5B513749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A5E22A-8BE9-4B6D-958F-FC65119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DC1F8-98D8-4AFF-B6FF-1B6B62C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CE7DAC-7BD9-4459-B26D-D347D17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17C32E-69E6-48AE-8DDD-2FF9305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E59F14-014B-4298-BF66-A828B0A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FFFE-F203-4EB7-936D-9C1FB9F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688AD-EEC2-4BBD-B9C3-9B0BC981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4B4E39-E15D-44DB-8CDA-B1265ED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9C7FC3-57BA-43BF-AF65-8B98C2D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84E96-69A1-41F1-8E4A-C6B92965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BD2F97-4861-4BFD-A50B-6ACA266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CC6386-CBCD-407F-B9CE-95DCAE60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970493-E3D8-4263-A0CE-CC3B0776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27BC56-32A8-4477-9561-448D551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7329AE-25E0-49BE-9EED-8E57DA9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B3BCB8-7A4F-4853-B64E-E878517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109D-8A1A-4832-930C-1985A4B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CB9E88-4D3F-41D1-A5BF-9AA43068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989E8-AD06-42EC-BAB4-BBFA764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8E3BED-FF47-4015-8622-4410CFD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E60289-B2FB-477E-8002-63592A1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BDF593-E6F3-4EEE-861C-F71C41AF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65DDCE-6621-4D05-8CC4-0E00663E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6BB2E8-D499-408F-8BA4-098A14E1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DB80-16C6-4CBF-9C44-35DA6093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CF05-85E8-47BD-AF4D-0BC1FD78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C7AB-A6B6-4700-9DE1-5826A1DD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F2E8-A9DE-43AB-98E9-F886F69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0271-407A-4711-AB54-389F0EAE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4312-90BE-436D-BFDE-1074DE6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620-BCB1-4EA7-82E9-FEEA1C8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108D-6D1C-4B1F-8E9D-32A6F1C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2C33-2C1D-42A3-BEB5-638B3355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BE2D-0392-41D0-9A4C-BEFB820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3C88-37A0-4B71-97F4-C1235D8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2AC7-4825-4865-BE87-8536473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F035-C415-4293-BE82-6783A0A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7C7C-F8B9-4F2D-9517-4D658D3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2F79-79EB-466B-A8A4-803F66F3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11FA-A9AE-497B-B5B9-12B7ED90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249E-BF59-4CBD-812E-EC88BAAA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1D7-CB9D-4238-9D05-838CC18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F733-1957-4B11-BDF6-D58992D4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BE6E-2626-44C8-8463-CC643963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9D57-0266-4C6F-B69B-72980F0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0313-7166-4341-9CBB-AB2E2DA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AD65-AB27-4E46-A786-B72B692A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8FB8-2361-4A07-872A-EB5E7A5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E8E4-BF25-44EA-949C-00A2C4F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758D-BC1B-449C-8C37-F960F23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3DD1-3E4F-4E1B-8C4C-AFD1464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B2C3-13EE-42A4-86BC-23CFDF0C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B97-854F-4484-A81F-0211D3A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076E-EB1D-403E-B554-B72B8D7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E5A3-B140-41F0-A6CD-C18DAF24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0044-A51E-4096-AFFD-7D30493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05701-720D-4E53-9148-25590445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9AC8-D810-4570-BC48-12B745A5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B3C6-4DD1-40DA-B70F-99066105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D2B5-D2F5-435D-A9E6-522EB2DA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E0BD-05ED-4CC0-8026-57A7404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B9EA-3A7F-4339-88EC-0AB963B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2223-F892-462F-9AAF-C50B48B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825-8871-401B-A928-9A8CFE5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850B-8C64-48B4-95F0-63C15C6E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DF33-79DA-44F0-ACFA-5CD9123A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0FE3-2F28-442C-92AD-5AD862B0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CEF9-1710-467A-A575-63EA279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91661-0A42-4E98-BAC6-6912A8BE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8CD3-FF87-48DD-AC57-80AB3937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5F78-AA00-4EF8-B996-C275C10F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8CE6-82DA-4028-B220-19CE936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EF58-A4C1-4DA8-B554-ECBF9E3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2051-2F87-41C3-95BD-C15E7EE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B9A-05E4-4138-B66D-F4C5AA8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3284-6506-4D95-B625-85B5603E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B134-2748-404F-9260-6834BBC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82F7-F90E-4BAA-8233-2D52830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3CC8-CE2D-4FED-9352-EDDF7834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7377-70DD-4C43-A1B8-4D34EF4F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04C04B-31C2-4783-94D2-F0B0884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48B33-FB7E-4D49-9379-EAA33546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DDE51-BAE7-40F6-9FE7-06ADE25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3382D-A2FE-4D1E-8ACD-9AB94FD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48426-811B-44CE-BA27-32233F9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E38-D375-46E4-834D-AB54B72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4B12E-E8C0-4CE8-A2A7-E49899D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CAD9C-5F4F-4E5F-93ED-52F85C6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63E1A-8F86-475C-BBBD-5ABF7C2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2FD272-1BB3-4B48-BC62-BF1DAAF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56D45-CDE0-460D-83F9-5952D181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57279-60EA-43C6-A150-301731A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3B8A51-0489-48F6-A1C3-9F5C357B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99F04-622C-404C-8D27-C6806DE2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E0ED-3580-4828-ABD9-AB16311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E13B3-97DB-480A-94CF-FD2E0B3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A3F5-FEF5-434D-BD69-69639510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276-BFFD-407C-9F2A-885B234333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0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0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EF9-47F9-4AB0-887F-D59E43D9F8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501-0E59-4FC8-B16A-73270F3C4A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9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9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1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1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3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F61-9973-45C5-BBEB-5214D88ACB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8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1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3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158-E470-4E40-B58E-56151BD2DC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F37A-150B-4B34-85A4-6003FD5A71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F16-8523-4711-BE95-5A45B0A460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44EE-E961-4498-B497-6AECBD4C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B70-2A74-4135-B329-DC09E3FB3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DDA-6997-40F9-9C3D-141D22BF28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3E3-7D46-430C-9A63-825205C0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D61-E7EF-428A-865B-77C0CDF21A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1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2835-5135-4654-94E3-F2D80732FF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55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3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6C6-8DA8-465E-82BC-BA7E6FD4C2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60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60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60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6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082-05CA-4A68-ADBD-38D76A8674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5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5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1"/>
          <p:cNvSpPr>
            <a:spLocks noGrp="1"/>
          </p:cNvSpPr>
          <p:nvPr>
            <p:ph type="dt" idx="7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ftr" idx="7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sldNum" idx="7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405-4026-4910-928A-45D2277906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BD54-671D-4529-A0B9-8FA12AB011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ftr" idx="7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CED-47CD-4A42-A33B-C817DA9072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dt" idx="7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ftr" idx="8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 type="sldNum" idx="8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E5CA-DA4C-4A19-8138-C0578A096F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9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0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2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2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2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234-EBE1-4A16-BE63-A5D4CCBD86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7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8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789-D4D8-4833-95A9-7FA033B2E6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1CB0-3946-4BD1-A338-8A81403963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015-0790-4F1D-B930-4D784230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973F-960A-4DCD-90F7-76FA6EA95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CF3-6AEA-4F5E-AE7C-C0A37F63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46D-CAEB-4A0D-A276-15EA668F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5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2E5-E2B2-49C3-BC47-F274BC3081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9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7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4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2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26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9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3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следовательская работа по русскому языку на тему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«Зверинец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в котором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живу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фразеологизмы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5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50036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44704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Держать </a:t>
            </a:r>
            <a:r>
              <a:rPr b="1" lang="en-US" sz="3200" spc="-1" strike="noStrike">
                <a:solidFill>
                  <a:srgbClr val="33cc33"/>
                </a:solidFill>
                <a:latin typeface="Tahoma"/>
              </a:rPr>
              <a:t>в ежовых рукавицах-</a:t>
            </a:r>
            <a:r>
              <a:rPr b="1" lang="en-US" sz="3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Очень строго,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сурово (держать, обходиться с кем-либо). </a:t>
            </a:r>
            <a:br>
              <a:rPr sz="3200"/>
            </a:br>
            <a:r>
              <a:rPr b="0" i="1" lang="en-US" sz="3200" spc="-1" strike="noStrike">
                <a:solidFill>
                  <a:srgbClr val="ff3399"/>
                </a:solidFill>
                <a:latin typeface="Tahoma"/>
              </a:rPr>
              <a:t>Если он и просил за сыновей, то для того только, чтобы им не мирволили и держали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в ежовых рукавицах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808360" cy="291600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968560" cy="2981160"/>
          </a:xfrm>
          <a:prstGeom prst="rect">
            <a:avLst/>
          </a:prstGeom>
          <a:ln w="0">
            <a:noFill/>
          </a:ln>
        </p:spPr>
      </p:pic>
      <p:pic>
        <p:nvPicPr>
          <p:cNvPr id="1958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9236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Вертеться (кружиться) как белка в колесе-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Находиться в беспрестанных хлопотах; суетиться.</a:t>
            </a:r>
            <a:r>
              <a:rPr b="0" i="1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День сегодня какой-то сумасшедший. С утра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верчусь как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белка в колесе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0" name="" descr=""/>
          <p:cNvPicPr/>
          <p:nvPr/>
        </p:nvPicPr>
        <p:blipFill>
          <a:blip r:embed="rId1"/>
          <a:stretch/>
        </p:blipFill>
        <p:spPr>
          <a:xfrm>
            <a:off x="3276720" y="2708280"/>
            <a:ext cx="1673280" cy="1857240"/>
          </a:xfrm>
          <a:prstGeom prst="rect">
            <a:avLst/>
          </a:prstGeom>
          <a:ln w="0">
            <a:noFill/>
          </a:ln>
        </p:spPr>
      </p:pic>
      <p:pic>
        <p:nvPicPr>
          <p:cNvPr id="1961" name="" descr=""/>
          <p:cNvPicPr/>
          <p:nvPr/>
        </p:nvPicPr>
        <p:blipFill>
          <a:blip r:embed="rId2"/>
          <a:stretch/>
        </p:blipFill>
        <p:spPr>
          <a:xfrm flipH="1">
            <a:off x="5148360" y="3716280"/>
            <a:ext cx="2448000" cy="2768760"/>
          </a:xfrm>
          <a:prstGeom prst="rect">
            <a:avLst/>
          </a:prstGeom>
          <a:ln w="0">
            <a:noFill/>
          </a:ln>
        </p:spPr>
      </p:pic>
      <p:pic>
        <p:nvPicPr>
          <p:cNvPr id="1962" name="" descr="бурундук с желудем, анимашка"/>
          <p:cNvPicPr/>
          <p:nvPr/>
        </p:nvPicPr>
        <p:blipFill>
          <a:blip r:embed="rId3"/>
          <a:stretch/>
        </p:blipFill>
        <p:spPr>
          <a:xfrm flipH="1">
            <a:off x="250920" y="2637000"/>
            <a:ext cx="3241440" cy="37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Tahoma"/>
              </a:rPr>
              <a:t>Вешать (навешать) собак-</a:t>
            </a: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deafd"/>
                </a:solidFill>
                <a:latin typeface="Tahoma"/>
              </a:rPr>
              <a:t>Клевеща, сваливать всю вину на кого-либо; ругать, обвиняя в чём-либо. </a:t>
            </a:r>
            <a:r>
              <a:rPr b="0" i="1" lang="en-US" sz="3200" spc="-1" strike="noStrike">
                <a:solidFill>
                  <a:srgbClr val="5deafd"/>
                </a:solidFill>
                <a:latin typeface="Tahoma"/>
              </a:rPr>
              <a:t>Вы, с мест, мастаки на совнархоз всех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собак вешать.</a:t>
            </a:r>
            <a:r>
              <a:rPr b="1" i="1" lang="en-US" sz="3200" spc="-1" strike="noStrike">
                <a:solidFill>
                  <a:srgbClr val="5deafd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5deafd"/>
                </a:solidFill>
                <a:latin typeface="Tahoma"/>
              </a:rPr>
              <a:t>Типичная иждивенческая психология.</a:t>
            </a:r>
            <a:r>
              <a:rPr b="0" i="1" lang="en-US" sz="2500" spc="-1" strike="noStrike">
                <a:solidFill>
                  <a:srgbClr val="fdfbe3"/>
                </a:solidFill>
                <a:latin typeface="Tahoma"/>
              </a:rPr>
              <a:t>   </a:t>
            </a:r>
            <a:endParaRPr b="0" lang="en-US" sz="25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964" name="" descr=""/>
          <p:cNvPicPr/>
          <p:nvPr/>
        </p:nvPicPr>
        <p:blipFill>
          <a:blip r:embed="rId1"/>
          <a:stretch/>
        </p:blipFill>
        <p:spPr>
          <a:xfrm>
            <a:off x="3476520" y="2924280"/>
            <a:ext cx="34005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Волк в овечьей шкуре-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Лицемер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Есть у нас и такие «пай-мальчики», которых редко записывают. Имена их не торчат в дисциплинарном журнале, они любят разглагольствовать о чести класса и осуждать поведение других, а сами втихомолку и разговаривают на уроках, и возятся.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 Это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олки в овечьей шкур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8" name="animal13" descr=""/>
          <p:cNvPicPr/>
          <p:nvPr/>
        </p:nvPicPr>
        <p:blipFill>
          <a:blip r:embed="rId1"/>
          <a:stretch/>
        </p:blipFill>
        <p:spPr>
          <a:xfrm>
            <a:off x="5219640" y="2133720"/>
            <a:ext cx="2951280" cy="3770280"/>
          </a:xfrm>
          <a:prstGeom prst="rect">
            <a:avLst/>
          </a:prstGeom>
          <a:ln w="0">
            <a:noFill/>
          </a:ln>
        </p:spPr>
      </p:pic>
      <p:pic>
        <p:nvPicPr>
          <p:cNvPr id="1969" name="" descr="овца, анимашка, анимация"/>
          <p:cNvPicPr/>
          <p:nvPr/>
        </p:nvPicPr>
        <p:blipFill>
          <a:blip r:embed="rId2"/>
          <a:stretch/>
        </p:blipFill>
        <p:spPr>
          <a:xfrm>
            <a:off x="684360" y="2852640"/>
            <a:ext cx="367344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Волком выть (взвыть)-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Горько жаловаться на лишения, страдания.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 И что иначе делать?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Волком выть?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Схватиться за головы и кричать:«Спасайся, мы погибли!»</a:t>
            </a:r>
            <a:r>
              <a:rPr b="0" i="1" lang="en-US" sz="28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"/>
          <a:stretch/>
        </p:blipFill>
        <p:spPr>
          <a:xfrm>
            <a:off x="5867280" y="4365720"/>
            <a:ext cx="3059280" cy="21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4" name=""/>
          <p:cNvGraphicFramePr/>
          <p:nvPr/>
        </p:nvGraphicFramePr>
        <p:xfrm>
          <a:off x="7380360" y="3357720"/>
          <a:ext cx="358560" cy="35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3357720"/>
                    <a:ext cx="358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6" name="" descr=""/>
          <p:cNvPicPr/>
          <p:nvPr/>
        </p:nvPicPr>
        <p:blipFill>
          <a:blip r:embed="rId4"/>
          <a:stretch/>
        </p:blipFill>
        <p:spPr>
          <a:xfrm flipH="1">
            <a:off x="755280" y="2276640"/>
            <a:ext cx="3887640" cy="40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знать </a:t>
            </a:r>
            <a:r>
              <a:rPr b="1" lang="en-US" sz="2000" spc="-1" strike="noStrike">
                <a:solidFill>
                  <a:srgbClr val="33cc33"/>
                </a:solidFill>
                <a:latin typeface="Tahoma"/>
              </a:rPr>
              <a:t>где раки зимуют-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1.Узнать, что такое настоящие трудности. </a:t>
            </a:r>
            <a:r>
              <a:rPr b="0" i="1" lang="en-US" sz="2000" spc="-1" strike="noStrike">
                <a:solidFill>
                  <a:srgbClr val="ff3399"/>
                </a:solidFill>
                <a:latin typeface="Tahoma"/>
              </a:rPr>
              <a:t>Ведь уроки у нас лёгкие. Не то что у вас, в четвёртом классе. – Да, - говорю, - у нас не то что у вас. Вот перейдёшь в четвёртый класс, тогда узнаешь, </a:t>
            </a:r>
            <a:r>
              <a:rPr b="1" i="1" lang="en-US" sz="2000" spc="-1" strike="noStrike">
                <a:solidFill>
                  <a:srgbClr val="ff3399"/>
                </a:solidFill>
                <a:latin typeface="Tahoma"/>
              </a:rPr>
              <a:t>где раки зимуют.</a:t>
            </a:r>
            <a:br>
              <a:rPr sz="2000"/>
            </a:b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2.Узнать, что такое настоящее наказание, суровая кара. </a:t>
            </a:r>
            <a:r>
              <a:rPr b="0" i="1" lang="en-US" sz="2000" spc="-1" strike="noStrike">
                <a:solidFill>
                  <a:srgbClr val="ff3399"/>
                </a:solidFill>
                <a:latin typeface="Tahoma"/>
              </a:rPr>
              <a:t>О классовой борьбе имеешь понятие или ты с луны свалился? Решается вопрос: «кто -кого» …Счастье твоё, я здесь сижу, не кто-нибудь другой, узнал бы ты,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где раки зимую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8" name="" descr="рак, анимашка"/>
          <p:cNvPicPr/>
          <p:nvPr/>
        </p:nvPicPr>
        <p:blipFill>
          <a:blip r:embed="rId2"/>
          <a:stretch/>
        </p:blipFill>
        <p:spPr>
          <a:xfrm>
            <a:off x="3492360" y="3213000"/>
            <a:ext cx="195768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Гоняться (гнаться) за двумя зайцами; погнаться за двумя зайцами-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Браться сразу за несколько дел. Вы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советуете мне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не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гоняться за двумя зайцами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 и не помышлять о занятиях медициной.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0" name="" descr="кролик играет на гитаре, анимашка"/>
          <p:cNvPicPr/>
          <p:nvPr/>
        </p:nvPicPr>
        <p:blipFill>
          <a:blip r:embed="rId1"/>
          <a:stretch/>
        </p:blipFill>
        <p:spPr>
          <a:xfrm>
            <a:off x="2590920" y="2057400"/>
            <a:ext cx="38098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ff66"/>
                </a:solidFill>
                <a:latin typeface="Tahoma"/>
              </a:rPr>
              <a:t>Крокодиловы слёзы-</a:t>
            </a:r>
            <a:r>
              <a:rPr b="0" lang="en-US" sz="21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ffff"/>
                </a:solidFill>
                <a:latin typeface="Tahoma"/>
              </a:rPr>
              <a:t>Лицемерное сострадание, неискреннее сожаление. </a:t>
            </a:r>
            <a:r>
              <a:rPr b="0" i="1" lang="en-US" sz="2100" spc="-1" strike="noStrike">
                <a:solidFill>
                  <a:srgbClr val="00ffff"/>
                </a:solidFill>
                <a:latin typeface="Tahoma"/>
              </a:rPr>
              <a:t>Теперь твоему раскаянию уже не поверят… Теперь ты хоть источники слёз пролей – и тогда скажут, что это </a:t>
            </a:r>
            <a:r>
              <a:rPr b="1" i="1" lang="en-US" sz="2100" spc="-1" strike="noStrike">
                <a:solidFill>
                  <a:srgbClr val="ffff00"/>
                </a:solidFill>
                <a:latin typeface="Tahoma"/>
              </a:rPr>
              <a:t>крокодиловы слёзы.</a:t>
            </a:r>
            <a:endParaRPr b="0" lang="en-US" sz="21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982" name="" descr=""/>
          <p:cNvPicPr/>
          <p:nvPr/>
        </p:nvPicPr>
        <p:blipFill>
          <a:blip r:embed="rId1"/>
          <a:srcRect l="14446" t="5691" r="0" b="-1561"/>
          <a:stretch/>
        </p:blipFill>
        <p:spPr>
          <a:xfrm>
            <a:off x="1835280" y="2781360"/>
            <a:ext cx="51987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Делать (сделать) из мухи слона- </a:t>
            </a: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Необоснованно преувеличивать что-либо. </a:t>
            </a:r>
            <a:r>
              <a:rPr b="0" i="1" lang="en-US" sz="2400" spc="-1" strike="noStrike">
                <a:solidFill>
                  <a:srgbClr val="ff3399"/>
                </a:solidFill>
                <a:latin typeface="Verdana"/>
              </a:rPr>
              <a:t>Вы не слушайте Петра Ивановича: он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из мухи делает слона</a:t>
            </a:r>
            <a:r>
              <a:rPr b="1" i="1" lang="en-US" sz="2400" spc="-1" strike="noStrike">
                <a:solidFill>
                  <a:srgbClr val="ff3399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ff3399"/>
                </a:solidFill>
                <a:latin typeface="Verdana"/>
              </a:rPr>
              <a:t> рад случаю поумнич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3124440" cy="335268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3"/>
          <a:stretch/>
        </p:blipFill>
        <p:spPr>
          <a:xfrm flipH="1">
            <a:off x="5076720" y="2637000"/>
            <a:ext cx="3456000" cy="25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Times New Roman"/>
              </a:rPr>
              <a:t>Делить шкуру неубитого медведя-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Заранее делить прибыль в ещё не осуществлённом деле.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99"/>
                </a:solidFill>
                <a:latin typeface="Times New Roman"/>
              </a:rPr>
              <a:t>Мы пересчитываем рыбу задолго до того, как она к нам попадёт… По этому поводу есть даже сказка… - Какая же?- О том, как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делили шкуру неубитого медведя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1" name="" descr=""/>
          <p:cNvPicPr/>
          <p:nvPr/>
        </p:nvPicPr>
        <p:blipFill>
          <a:blip r:embed="rId1"/>
          <a:stretch/>
        </p:blipFill>
        <p:spPr>
          <a:xfrm>
            <a:off x="2195640" y="2222640"/>
            <a:ext cx="38890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3210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сследовательскую работу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полнила ученица 7 класс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МОУ «Белопольная основная общеобразовательная школа»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дамовского района, Оренбургской области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овшова Ксе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168720" cy="251928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4284720" y="2997360"/>
            <a:ext cx="4464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Microsoft Sans Serif"/>
              </a:rPr>
              <a:t>Руководитель: учитель русского языка   высшей  категории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Microsoft Sans Serif"/>
              </a:rPr>
              <a:t>МОУ «Белопольная основная общеобразовательная школа» Адамовского района, Оренбург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Microsoft Sans Serif"/>
              </a:rPr>
              <a:t>Парнева Любовь Ив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9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онь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щё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не валялся-</a:t>
            </a:r>
            <a:r>
              <a:rPr b="1" lang="ru-RU" sz="2000" spc="-1" strike="noStrike">
                <a:solidFill>
                  <a:srgbClr val="66abe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чего не сделано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опитесь, друзья, до ввода комплекса осталось недолго, девять-десять месяцев.- Но позвольте, - горячился Папуша, - там и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конь не валялся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оителям работы по горло. Толком ещё не начат монт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5181480" cy="4343400"/>
          </a:xfrm>
          <a:prstGeom prst="rect">
            <a:avLst/>
          </a:prstGeom>
          <a:ln w="0">
            <a:noFill/>
          </a:ln>
        </p:spPr>
      </p:pic>
      <p:pic>
        <p:nvPicPr>
          <p:cNvPr id="1996" name="" descr=""/>
          <p:cNvPicPr/>
          <p:nvPr/>
        </p:nvPicPr>
        <p:blipFill>
          <a:blip r:embed="rId2"/>
          <a:stretch/>
        </p:blipFill>
        <p:spPr>
          <a:xfrm>
            <a:off x="5543640" y="2060640"/>
            <a:ext cx="360036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Заморить червячка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Слегка, наскоро утолить голод.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Те, кто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заморил червячка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, сплеснув, передавали посудину и огрызок сахара дальш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069320" cy="4713120"/>
          </a:xfrm>
          <a:prstGeom prst="rect">
            <a:avLst/>
          </a:prstGeom>
          <a:ln w="0">
            <a:noFill/>
          </a:ln>
        </p:spPr>
      </p:pic>
      <p:pic>
        <p:nvPicPr>
          <p:cNvPr id="1999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15720" cy="12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b3ff"/>
                </a:solidFill>
                <a:latin typeface="Arial"/>
              </a:rPr>
              <a:t>Змея подколодная-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Коварный, опасный человек.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Это всё ты! Ты,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змея подколодная!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Ты наговорила! Сжить нас со свету хочешь! Что мы тебе сделали? Что?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01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31975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417672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Идёт, пристало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&lt;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&gt;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корове седло-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Ничуть не идёт что-либо. </a:t>
            </a:r>
            <a:r>
              <a:rPr b="0" i="1" lang="ru-RU" sz="2800" spc="-1" strike="noStrike">
                <a:solidFill>
                  <a:srgbClr val="ff3399"/>
                </a:solidFill>
                <a:latin typeface="Arial Black"/>
              </a:rPr>
              <a:t>Галстук ему шёл</a:t>
            </a:r>
            <a:r>
              <a:rPr b="1" i="1" lang="ru-RU" sz="2800" spc="-1" strike="noStrike">
                <a:solidFill>
                  <a:srgbClr val="ff3399"/>
                </a:solidFill>
                <a:latin typeface="Arial Black"/>
              </a:rPr>
              <a:t> как корове седл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3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2116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500" autoRev="1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3" dur="1500" autoRev="1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4" dur="1500" autoRev="1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Как корова языком слизала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Кто-либо быстро и бесследно исчез, что-либо быстро и начисто исчезло.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 В третьем батальоне прямое попадание в окоп. Сразу одиннадцать человек </a:t>
            </a: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как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корова языком слизал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!-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с горечью сказал Левашов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05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0120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Жить (прожить)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как кошка с собакой-</a:t>
            </a:r>
            <a:r>
              <a:rPr b="1" lang="en-US" sz="2800" spc="-1" strike="noStrike">
                <a:solidFill>
                  <a:srgbClr val="ae00f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Недружно, в постоянной ссоре.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Ведь она жила с фельдшером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как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кошка с собакой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 и для неё праздник, если его уволят.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00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19408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Дуешься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как мышь на крупу-</a:t>
            </a:r>
            <a:r>
              <a:rPr b="1" lang="en-US" sz="2800" spc="-1" strike="noStrike">
                <a:solidFill>
                  <a:srgbClr val="ffb3b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Очень сильно дуешься, злишься на кого-либо.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Чего это ты вдруг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надулся </a:t>
            </a: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как мышь на крупу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9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343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1d"/>
                </a:solidFill>
                <a:latin typeface="Arial"/>
              </a:rPr>
              <a:t>Быть, чувствовать себя (почувствовать) и т. п. </a:t>
            </a:r>
            <a:r>
              <a:rPr b="1" lang="en-US" sz="2800" spc="-1" strike="noStrike">
                <a:solidFill>
                  <a:srgbClr val="ffff1d"/>
                </a:solidFill>
                <a:latin typeface="Arial"/>
              </a:rPr>
              <a:t>как рыба в воде-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Совершенно свободно, вполне естественно и просто (чувствовать себя).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(Тимофей) в рабочей среде –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как рыба в воде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, всех знает и его все знают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1" name="" descr=""/>
          <p:cNvPicPr/>
          <p:nvPr/>
        </p:nvPicPr>
        <p:blipFill>
          <a:blip r:embed="rId1"/>
          <a:stretch/>
        </p:blipFill>
        <p:spPr>
          <a:xfrm rot="1689600">
            <a:off x="5435280" y="2822400"/>
            <a:ext cx="3819600" cy="30243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352728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Как собака на сене-</a:t>
            </a:r>
            <a:r>
              <a:rPr b="0" lang="en-US" sz="2000" spc="-1" strike="noStrike">
                <a:solidFill>
                  <a:srgbClr val="1515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Сам не пользуется чем-либо и другим не даёт пользоваться.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 – Людям жить негде, а они - </a:t>
            </a:r>
            <a:r>
              <a:rPr b="0" i="1" lang="en-US" sz="2000" spc="-1" strike="noStrike">
                <a:solidFill>
                  <a:srgbClr val="ff3399"/>
                </a:solidFill>
                <a:latin typeface="Arial"/>
              </a:rPr>
              <a:t>как собака на сене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 flipH="1">
            <a:off x="2987280" y="1557360"/>
            <a:ext cx="4537080" cy="47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Нужен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как собаке пятая нога-</a:t>
            </a:r>
            <a:r>
              <a:rPr b="0" lang="en-US" sz="2400" spc="-1" strike="noStrike">
                <a:solidFill>
                  <a:srgbClr val="fcf604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овсе не нужен.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Исповедь мне твоя нужна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как собаке пятая нога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8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4640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к работает сл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ывает частенько: слово одн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 очень по – разному служит о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меры здесь можно найти без труд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зьмём хоть короткое слово «вода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т был я мальчишкой, да детство прошло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тех пор уж </a:t>
            </a:r>
            <a:r>
              <a:rPr b="1" i="1" lang="en-US" sz="2800" spc="-1" strike="noStrike">
                <a:solidFill>
                  <a:srgbClr val="ff0066"/>
                </a:solidFill>
                <a:latin typeface="Verdana"/>
              </a:rPr>
              <a:t>немало воды утекло</a:t>
            </a:r>
            <a:r>
              <a:rPr b="0" i="1" lang="en-US" sz="2800" spc="-1" strike="noStrike">
                <a:solidFill>
                  <a:srgbClr val="ff0066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 смелом мы вправе сказать наперёд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Такой </a:t>
            </a:r>
            <a:r>
              <a:rPr b="1" i="1" lang="en-US" sz="2800" spc="-1" strike="noStrike">
                <a:solidFill>
                  <a:srgbClr val="ff0066"/>
                </a:solidFill>
                <a:latin typeface="Verdana"/>
              </a:rPr>
              <a:t>сквозь огонь и  сквозь воду пройдё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20f"/>
                </a:solidFill>
                <a:latin typeface="Garamond"/>
              </a:rPr>
              <a:t>Разбирается, понимает, смыслит и т.п. </a:t>
            </a:r>
            <a:r>
              <a:rPr b="1" lang="en-US" sz="2800" spc="-1" strike="noStrike">
                <a:solidFill>
                  <a:srgbClr val="ff820f"/>
                </a:solidFill>
                <a:latin typeface="Garamond"/>
              </a:rPr>
              <a:t>как свинья в апельсинах- </a:t>
            </a:r>
            <a:r>
              <a:rPr b="0" lang="en-US" sz="2800" spc="-1" strike="noStrike">
                <a:solidFill>
                  <a:srgbClr val="ff3399"/>
                </a:solidFill>
                <a:latin typeface="Garamond"/>
              </a:rPr>
              <a:t>Ничуть, совершенно не разбирается. </a:t>
            </a:r>
            <a:r>
              <a:rPr b="0" i="1" lang="en-US" sz="2800" spc="-1" strike="noStrike">
                <a:solidFill>
                  <a:srgbClr val="ff3399"/>
                </a:solidFill>
                <a:latin typeface="Garamond"/>
              </a:rPr>
              <a:t>Что касается «Русской мысли», то там сидят не литераторы, а копчёные сиги, которые столько же понимают в литературе, </a:t>
            </a:r>
            <a:r>
              <a:rPr b="1" i="1" lang="en-US" sz="2800" spc="-1" strike="noStrike">
                <a:solidFill>
                  <a:srgbClr val="ff3399"/>
                </a:solidFill>
                <a:latin typeface="Garamond"/>
              </a:rPr>
              <a:t>как свинья в апельсинах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0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8327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Бегать, бежать (вбежать), метаться, носиться и т.п.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как угорелая кошка-</a:t>
            </a: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 крайнем исступлении, никого не замечая, бегать, метаться.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Карп: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33cc"/>
                </a:solidFill>
                <a:latin typeface="Arial"/>
              </a:rPr>
              <a:t>Как это вы себе покою не найдёте? Мечетесь вы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угорелая кошка.</a:t>
            </a:r>
            <a:endParaRPr b="0" lang="en-US" sz="28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02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248000" cy="2971800"/>
          </a:xfrm>
          <a:prstGeom prst="rect">
            <a:avLst/>
          </a:prstGeom>
          <a:ln w="0">
            <a:noFill/>
          </a:ln>
        </p:spPr>
      </p:pic>
      <p:pic>
        <p:nvPicPr>
          <p:cNvPr id="2025" name="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403236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Вывод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ая со словарём фразеологических сочетаний Жукова, я пришла к выводу, что из предложенных автором фразеологизмов в 109 из них упоминаются  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проведённым мною подсчётам я делаю вывод, что чаще всего во фразеологизмах употреб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АКА   -  7 ра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УХА И КУРИЦА – 6 ра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ШКА, КОЗА, КОНЬ – 5 ра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ЛК, ВОРОБЕЙ – 4 р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ДВЕДЬ, СВИНЬЯ, ПЕТУХ – 3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я гипотеза не подтвердилас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ще всего во фразеологизмах употребляется  не волк, а соба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0" name="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5208840" cy="30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В.П.Жуков – Школьный фразеологический словарь русского языка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Москва, Просвещение, 19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На уроках русского языка мы изучили фразеологизмы. Я заметила, что во фразеологизмах часто упоминаются  животн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Меня заинтересовал вопрос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«Как часто во фразеологизмах употребляются различные животны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«Какое из животных чаще других употребляется во фразеологизмах?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Я думаю, что чаще  всего во фразеологизмах употребляетс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                         </a:t>
            </a: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волк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бор материала по фразеологи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лассификация материал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зучение фразеологизмов о животны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яснение ответа на вопрос, какое животное чаще всего употребляется во фразеологизма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ширение словарного запас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полнительное изучение русского язы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Барашек на бумажке-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Взятка.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И там сунуть придётся, и в другом месте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арашка на бумажке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подарить.</a:t>
            </a: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49" name="" descr="баран, анимашка"/>
          <p:cNvPicPr/>
          <p:nvPr/>
        </p:nvPicPr>
        <p:blipFill>
          <a:blip r:embed="rId1"/>
          <a:stretch/>
        </p:blipFill>
        <p:spPr>
          <a:xfrm rot="21478200">
            <a:off x="2340000" y="2204640"/>
            <a:ext cx="371628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Биться как рыба об лёд-</a:t>
            </a:r>
            <a:r>
              <a:rPr b="1" lang="en-US" sz="24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 Black"/>
              </a:rPr>
              <a:t>Безрезультатно добиваться улучшения материального положения; терпеть крайнюю нужду, бедствовать. </a:t>
            </a:r>
            <a:br>
              <a:rPr sz="2400"/>
            </a:br>
            <a:r>
              <a:rPr b="1" i="1" lang="en-US" sz="2400" spc="-1" strike="noStrike">
                <a:solidFill>
                  <a:srgbClr val="ff3399"/>
                </a:solidFill>
                <a:latin typeface="Arial Black"/>
              </a:rPr>
              <a:t>С утра до вечера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бьётся</a:t>
            </a:r>
            <a:r>
              <a:rPr b="0" i="1" lang="en-US" sz="24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ff3399"/>
                </a:solidFill>
                <a:latin typeface="Arial Black"/>
              </a:rPr>
              <a:t>мужик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как рыба об лёд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,</a:t>
            </a:r>
            <a:r>
              <a:rPr b="1" i="1" lang="en-US" sz="2400" spc="-1" strike="noStrike">
                <a:solidFill>
                  <a:srgbClr val="ff3399"/>
                </a:solidFill>
                <a:latin typeface="Arial Black"/>
              </a:rPr>
              <a:t> а всё нет ничег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1" name="" descr="рыбка, анимашка"/>
          <p:cNvPicPr/>
          <p:nvPr/>
        </p:nvPicPr>
        <p:blipFill>
          <a:blip r:embed="rId1"/>
          <a:stretch/>
        </p:blipFill>
        <p:spPr>
          <a:xfrm>
            <a:off x="2627280" y="2565360"/>
            <a:ext cx="4724280" cy="31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Брать быка за рога-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 Смело, энергично начинать с самого важного. </a:t>
            </a:r>
            <a:br>
              <a:rPr sz="2400"/>
            </a:br>
            <a:r>
              <a:rPr b="0" i="1" lang="en-US" sz="2400" spc="-1" strike="noStrike">
                <a:solidFill>
                  <a:srgbClr val="ff3399"/>
                </a:solidFill>
                <a:latin typeface="Tahoma"/>
              </a:rPr>
              <a:t>Я </a:t>
            </a:r>
            <a:r>
              <a:rPr b="1" i="1" lang="en-US" sz="2400" spc="-1" strike="noStrike">
                <a:solidFill>
                  <a:srgbClr val="ff3399"/>
                </a:solidFill>
                <a:latin typeface="Tahoma"/>
              </a:rPr>
              <a:t>взял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быка за рога…</a:t>
            </a:r>
            <a:r>
              <a:rPr b="0" i="1" lang="en-US" sz="2400" spc="-1" strike="noStrike">
                <a:solidFill>
                  <a:srgbClr val="ff3399"/>
                </a:solidFill>
                <a:latin typeface="Tahoma"/>
              </a:rPr>
              <a:t> Моя напористость убедила их, что я не лыком шит и разбираюсь в вопросах киберне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3" name="" descr=""/>
          <p:cNvPicPr/>
          <p:nvPr/>
        </p:nvPicPr>
        <p:blipFill>
          <a:blip r:embed="rId2"/>
          <a:stretch/>
        </p:blipFill>
        <p:spPr>
          <a:xfrm flipH="1">
            <a:off x="900000" y="3645000"/>
            <a:ext cx="2376720" cy="2523960"/>
          </a:xfrm>
          <a:prstGeom prst="rect">
            <a:avLst/>
          </a:prstGeom>
          <a:ln w="0">
            <a:noFill/>
          </a:ln>
        </p:spPr>
      </p:pic>
      <p:pic>
        <p:nvPicPr>
          <p:cNvPr id="1954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37242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1:14:37Z</dcterms:created>
  <dc:creator>Игорь</dc:creator>
  <dc:description/>
  <dc:language>en-US</dc:language>
  <cp:lastModifiedBy>User</cp:lastModifiedBy>
  <dcterms:modified xsi:type="dcterms:W3CDTF">2009-01-27T08:44:51Z</dcterms:modified>
  <cp:revision>25</cp:revision>
  <dc:subject/>
  <dc:title>Барашек на бумажке- Взятка. И там сунуть придётся, и в другом месте барашка на бумажке подарить. </dc:title>
</cp:coreProperties>
</file>